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6.wmf" ContentType="image/x-wmf"/>
  <Override PartName="/ppt/media/image17.png" ContentType="image/png"/>
  <Override PartName="/ppt/media/image4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6DD-A6B0-4E77-8E7E-B6B86F4C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17480"/>
            <a:ext cx="76914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23B-1E3A-4571-A67F-EFBC1C08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1748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9000" y="431748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F997-4BA8-41B5-AB93-DEEF2CF7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1748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360" y="431748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9000" y="431748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D7DA-EAF1-4999-9128-F607254E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5DA7-C4DC-4704-A9C6-600E2563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CF3E-5254-4B58-AA95-72A69CAF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7F5A-DC3A-4154-B5EE-5D8DDF43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8D7C-15C0-453F-AD5D-490FAB02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3782-9BC5-4C14-910A-3A62B8D5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712A-15EF-4EF4-8E00-FED76094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31748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559A-F831-475F-B970-5334D045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27C-172A-451E-8E7F-7DE8FEA2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9000" y="431748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859D-F2C8-49CB-A32A-E3B5CF79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317480"/>
            <a:ext cx="76914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68DB-8050-4761-9A20-2278F835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317480"/>
            <a:ext cx="76914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FE9D-B50F-484F-9A1E-B0035C68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31748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9000" y="431748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2A86-58F0-4F90-8462-5B77D77B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31748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8360" y="431748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9000" y="4317480"/>
            <a:ext cx="24764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610D-4DF7-4753-9688-6B6D408F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F15-A373-4F87-9416-40412A00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B8D7-8672-48DB-90F9-BB4D14A3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8EAF-2BDA-43AA-9E1D-C5F1F7EA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A98-DF9D-4C13-A5BD-4DAB9524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1748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E43A-8ED7-4B0C-92AB-E8D409E3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9000" y="431748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572-6730-4F14-B035-A59D5C6F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17480"/>
            <a:ext cx="76914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448C-C523-45F0-A3FD-9FC0FF13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8320" cy="6856560"/>
            <a:chOff x="0" y="0"/>
            <a:chExt cx="761832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240" y="1981080"/>
              <a:ext cx="7390080" cy="317520"/>
              <a:chOff x="228240" y="1981080"/>
              <a:chExt cx="7390080" cy="3175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08840" cy="3160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7880" y="1981080"/>
                <a:ext cx="39204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6A62E9-2283-45D7-B06F-5E7E2DCC2CE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5480" cy="317520"/>
            <a:chOff x="3632040" y="4889520"/>
            <a:chExt cx="4875480" cy="31752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4560" cy="3157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6720"/>
            <a:ext cx="585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456151-92AD-4B5C-A021-BC5135C44832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5160" y="1269720"/>
            <a:ext cx="7670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Darwin vs. Lamarc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447920"/>
            <a:ext cx="8305920" cy="231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eestyle Script"/>
              </a:rPr>
              <a:t>Theories of Evolution</a:t>
            </a:r>
            <a:endParaRPr b="0" lang="en-US" sz="18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eestyle Script"/>
              <a:ea typeface="Freestyle Scrip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3.  Some variations are FAVORABLE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</a:rPr>
              <a:t>(increase chances for survival/ reproduc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680" y="2438280"/>
            <a:ext cx="4114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le vs. Female Cardin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le color attracts female= reproductive advant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29000" y="4343400"/>
            <a:ext cx="3081240" cy="2168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477120" y="2209680"/>
            <a:ext cx="24382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54080" y="871560"/>
            <a:ext cx="7570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608040" indent="-608040">
              <a:lnSpc>
                <a:spcPct val="90000"/>
              </a:lnSpc>
              <a:buClr>
                <a:srgbClr val="006666"/>
              </a:buClr>
              <a:buFont typeface="Arial"/>
              <a:buAutoNum type="arabicPeriod"/>
              <a:tabLst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Better adapted individuals survive and reprodu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hese are the individuals that will pass on their genes to the next gener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his can change the GENE POO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cludes all the genes of every reproductive member of a pop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What The theory of evolution IS NOT!!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does NOT occur in INDIVIDUALS…only populations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does NOT happen quickly…the Earth has a Looooooong history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does NOT explain how life came to be on Earth, just how it evolved after it was he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does NOT have any driving force except the competition for limited resour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arwin’s Finches…p 558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llustrate SPECIATION:  when a species breaks into two (or mo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he organisms in the two species can no longer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TERBRE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What could cause this to happen?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ographic barri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ccupy a new niche/habit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productive Isolation-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What would Darwin say to explain why giraffe’s have such long necks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e pg. 55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7621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comic"/>
              </a:rPr>
              <a:t>Evolution- 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 “Change Over Time”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ll of the changes that have occurred in living things since the beginning of life on Ear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55720" y="2057400"/>
            <a:ext cx="73738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7621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istory of the Earth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41280" y="1268280"/>
            <a:ext cx="8435880" cy="5075280"/>
            <a:chOff x="341280" y="1268280"/>
            <a:chExt cx="8435880" cy="507528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341280" y="1268280"/>
              <a:ext cx="8435880" cy="507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41280" y="1268280"/>
              <a:ext cx="8435880" cy="50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7621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700 million years ago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706400" y="1401840"/>
            <a:ext cx="5673960" cy="2181240"/>
            <a:chOff x="1706400" y="1401840"/>
            <a:chExt cx="5673960" cy="218124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1706400" y="1401840"/>
              <a:ext cx="567396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706400" y="1401840"/>
              <a:ext cx="5673960" cy="21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2736720"/>
            <a:ext cx="5559120" cy="42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fill="hold">
                      <p:stCondLst>
                        <p:cond delay="0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844560" y="797040"/>
            <a:ext cx="7769160" cy="996840"/>
            <a:chOff x="844560" y="797040"/>
            <a:chExt cx="7769160" cy="99684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844560" y="797040"/>
              <a:ext cx="7769160" cy="9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844560" y="797040"/>
              <a:ext cx="776916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volution occurs over MANY generation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volution occurs within POPULATIONS (NOT individual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volution involves genetic changes in a SPE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Lucida Sans Unicode"/>
              </a:rPr>
              <a:t>(Members of a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Lucida Sans Unicode"/>
              </a:rPr>
              <a:t>species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Lucida Sans Unicode"/>
              </a:rPr>
              <a:t> interbreed to produce healthy, fertile offsprin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7621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vidence for Evolu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617920" y="2425680"/>
            <a:ext cx="4502160" cy="3127320"/>
            <a:chOff x="2617920" y="2425680"/>
            <a:chExt cx="4502160" cy="31273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2617920" y="2425680"/>
              <a:ext cx="4502160" cy="31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617920" y="2425680"/>
              <a:ext cx="4502160" cy="31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Jean-Baptiste LaMarck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738520"/>
            <a:ext cx="76932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rench, Early 1800’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ES" sz="4000" spc="-1" strike="noStrike" u="sng">
                <a:solidFill>
                  <a:srgbClr val="99cc99"/>
                </a:solidFill>
                <a:uFillTx/>
                <a:latin typeface="Arial"/>
              </a:rPr>
              <a:t>Theory of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1280"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ES" sz="4000" spc="-1" strike="noStrike" u="sng">
                <a:solidFill>
                  <a:srgbClr val="99cc99"/>
                </a:solidFill>
                <a:uFillTx/>
                <a:latin typeface="Arial"/>
              </a:rPr>
              <a:t>Inheritance of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1280" indent="0" algn="ctr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s-ES" sz="4000" spc="-1" strike="noStrike" u="sng">
                <a:solidFill>
                  <a:srgbClr val="99cc99"/>
                </a:solidFill>
                <a:uFillTx/>
                <a:latin typeface="Arial"/>
              </a:rPr>
              <a:t>Acquired Characteristic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wo main point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293760"/>
            <a:ext cx="7924680" cy="11430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OSSIL EVIDENCE-</a:t>
            </a:r>
            <a:br>
              <a:rPr sz="3200"/>
            </a:b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Provides TRANSITIONAL LINK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23880"/>
            <a:ext cx="40402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s-ES" sz="2000" spc="-1" strike="noStrike">
                <a:solidFill>
                  <a:srgbClr val="003366"/>
                </a:solidFill>
                <a:latin typeface="Castellar"/>
              </a:rPr>
              <a:t>Archaeopteryx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links reptiles and  bird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9480" y="2590920"/>
            <a:ext cx="3633840" cy="3949560"/>
            <a:chOff x="609480" y="2590920"/>
            <a:chExt cx="3633840" cy="394956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609480" y="2590920"/>
              <a:ext cx="3633840" cy="39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09480" y="2590920"/>
              <a:ext cx="3633840" cy="39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638600" y="1487520"/>
            <a:ext cx="4052880" cy="955800"/>
            <a:chOff x="4638600" y="1487520"/>
            <a:chExt cx="4052880" cy="955800"/>
          </a:xfrm>
        </p:grpSpPr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4638600" y="1487520"/>
              <a:ext cx="405288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638600" y="1487520"/>
              <a:ext cx="40528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645080" y="2717640"/>
            <a:ext cx="4040280" cy="3630600"/>
            <a:chOff x="4645080" y="2717640"/>
            <a:chExt cx="4040280" cy="363060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4645080" y="2717640"/>
              <a:ext cx="4040280" cy="36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645080" y="2717640"/>
              <a:ext cx="4040280" cy="36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62120" y="582480"/>
            <a:ext cx="792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natomical Evidenc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347840"/>
            <a:ext cx="3963960" cy="1819080"/>
          </a:xfrm>
          <a:prstGeom prst="rect">
            <a:avLst/>
          </a:prstGeom>
          <a:noFill/>
          <a:ln cap="sq"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s-ES" sz="2100" spc="-1" strike="noStrike" u="sng">
                <a:solidFill>
                  <a:srgbClr val="0070c0"/>
                </a:solidFill>
                <a:uFillTx/>
                <a:latin typeface="Arial"/>
              </a:rPr>
              <a:t>HOMOLOGOUS STRUCTURES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tructures that are similar because they were inherited from a </a:t>
            </a:r>
            <a:r>
              <a:rPr b="1" lang="es-ES" sz="1800" spc="-1" strike="noStrike">
                <a:solidFill>
                  <a:srgbClr val="0070c0"/>
                </a:solidFill>
                <a:latin typeface="Arial"/>
              </a:rPr>
              <a:t>COMMON ANCES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36680" y="3240000"/>
            <a:ext cx="2847960" cy="2181240"/>
            <a:chOff x="1336680" y="3240000"/>
            <a:chExt cx="2847960" cy="218124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1336680" y="3240000"/>
              <a:ext cx="284796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336680" y="3240000"/>
              <a:ext cx="2847960" cy="21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648320" y="1243080"/>
            <a:ext cx="4038480" cy="1995480"/>
          </a:xfrm>
          <a:prstGeom prst="rect">
            <a:avLst/>
          </a:prstGeom>
          <a:noFill/>
          <a:ln cap="sq"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s-ES" sz="2300" spc="-1" strike="noStrike" u="sng">
                <a:solidFill>
                  <a:srgbClr val="7030a0"/>
                </a:solidFill>
                <a:uFillTx/>
                <a:latin typeface="Arial"/>
              </a:rPr>
              <a:t>ANALOGOUS STRUCTURE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similar in function, but </a:t>
            </a:r>
            <a:r>
              <a:rPr b="1" lang="es-ES" sz="2000" spc="-1" strike="noStrike">
                <a:solidFill>
                  <a:srgbClr val="7030a0"/>
                </a:solidFill>
                <a:latin typeface="Arial"/>
              </a:rPr>
              <a:t>NOT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inherited from a common ancest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756320" y="3424320"/>
            <a:ext cx="3776400" cy="2128680"/>
            <a:chOff x="4756320" y="3424320"/>
            <a:chExt cx="3776400" cy="2128680"/>
          </a:xfrm>
        </p:grpSpPr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4756320" y="3424320"/>
              <a:ext cx="377640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756320" y="3424320"/>
              <a:ext cx="3776400" cy="21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78720" y="5638680"/>
            <a:ext cx="39625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Calibri"/>
                <a:ea typeface="Arial"/>
              </a:rPr>
              <a:t>NOTE:  similar structure, but NOT always function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5638680"/>
            <a:ext cx="40388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Calibri"/>
                <a:ea typeface="Arial"/>
              </a:rPr>
              <a:t>NOTE:  similar FUNCTION, but not STRUCTUR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2120" y="712800"/>
            <a:ext cx="7924680" cy="968400"/>
          </a:xfrm>
          <a:prstGeom prst="rect">
            <a:avLst/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More Anatomical Evidence:</a:t>
            </a:r>
            <a:br>
              <a:rPr sz="3200"/>
            </a:br>
            <a:r>
              <a:rPr b="1" lang="es-ES" sz="3200" spc="-1" strike="noStrike" u="sng">
                <a:solidFill>
                  <a:srgbClr val="ff0000"/>
                </a:solidFill>
                <a:uFillTx/>
                <a:latin typeface="Castellar"/>
              </a:rPr>
              <a:t>Vestigial Structur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828800" y="1600200"/>
            <a:ext cx="6826320" cy="4799160"/>
            <a:chOff x="1828800" y="1600200"/>
            <a:chExt cx="6826320" cy="479916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1828800" y="1600200"/>
              <a:ext cx="682632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828800" y="1600200"/>
              <a:ext cx="6826320" cy="47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905120" y="4572000"/>
            <a:ext cx="2514600" cy="1739880"/>
          </a:xfrm>
          <a:prstGeom prst="rect">
            <a:avLst/>
          </a:prstGeom>
          <a:noFill/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Vestigial Structures are undeveloped structures that were functional in some ancestor, but are no longer needed in that organism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62120" y="7621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MBRYOLOGY- </a:t>
            </a:r>
            <a:br>
              <a:rPr sz="3200"/>
            </a:b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suggests common ancesto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209680" y="1600200"/>
            <a:ext cx="4646880" cy="4799160"/>
            <a:chOff x="2209680" y="1600200"/>
            <a:chExt cx="4646880" cy="479916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2209680" y="1600200"/>
              <a:ext cx="464688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209680" y="1600200"/>
              <a:ext cx="4646880" cy="47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OGEOGRAPHICAL EVIDENC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1219320"/>
            <a:ext cx="8381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en we study the distribution of plants and animals on the planet, we notic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Lucida Sans Unicode"/>
              </a:rPr>
              <a:t>Animals evolved differently in each of the biogeographical reg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Lucida Sans Unicode"/>
              </a:rPr>
              <a:t>We see evidence that as the continents drifted, organisms were separated and evolv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23880" y="3600360"/>
            <a:ext cx="618192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7621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OCHEMICAL EVIDENC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most all living things use the same biochemical molecu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Lucida Sans Unicode"/>
              </a:rPr>
              <a:t>DNA, Protein, AT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Vast diversity came about by only slight differences in the same ge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Lucida Sans Unicode"/>
              </a:rPr>
              <a:t>The more closely “related” the organisms are, the more similar their D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ther Evidenc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7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Mimicry and Camoflau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 Antibiotic Resist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2495520" cy="16509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143000" y="2590920"/>
            <a:ext cx="2103480" cy="2163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1080" y="1981080"/>
            <a:ext cx="1800" cy="533520"/>
          </a:xfrm>
          <a:prstGeom prst="line">
            <a:avLst/>
          </a:prstGeom>
          <a:ln cap="sq"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2057400"/>
            <a:ext cx="685800" cy="609480"/>
          </a:xfrm>
          <a:prstGeom prst="line">
            <a:avLst/>
          </a:prstGeom>
          <a:ln cap="sq"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68580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1676520"/>
          </a:xfrm>
          <a:prstGeom prst="rect">
            <a:avLst/>
          </a:prstGeom>
          <a:noFill/>
          <a:ln cap="sq" w="9360">
            <a:solidFill>
              <a:srgbClr val="33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Arial"/>
              </a:rPr>
              <a:t>1.  </a:t>
            </a: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Principle of Use &amp; Disuse:</a:t>
            </a:r>
            <a:r>
              <a:rPr b="0" lang="es-E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988920" indent="-531720" algn="ctr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ost used body structures develop, unused structures waste aw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895480"/>
            <a:ext cx="8229600" cy="3124440"/>
          </a:xfrm>
          <a:prstGeom prst="rect">
            <a:avLst/>
          </a:prstGeom>
          <a:noFill/>
          <a:ln cap="sq"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spcBef>
                <a:spcPts val="9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2. Inheritance of Acquired Characteristics</a:t>
            </a:r>
            <a:r>
              <a:rPr b="0" lang="es-ES" sz="3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nce the structure is modified, the new trait can be inherited (passed to offspr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plain the picture below as if you were LaMarck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5229000" cy="46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Why we don’t believe him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2819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99cc99"/>
                </a:solidFill>
                <a:latin typeface="Arial"/>
              </a:rPr>
              <a:t>Genetics</a:t>
            </a:r>
            <a:r>
              <a:rPr b="0" lang="en-US" sz="6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egor Mendel discovered that traits are passed down through GENES (which aren’t affected by the outside world in that wa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2860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s-ES" sz="5400" spc="-1" strike="noStrike">
                <a:solidFill>
                  <a:srgbClr val="99cc99"/>
                </a:solidFill>
                <a:latin typeface="Arial"/>
              </a:rPr>
              <a:t>Experiments: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show that changes that occur in an animal’s life are not passed on to its offsp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harles Darwin</a:t>
            </a:r>
            <a:br>
              <a:rPr sz="36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The Father of Evolution”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612520"/>
            <a:ext cx="7693200" cy="3473640"/>
          </a:xfrm>
          <a:prstGeom prst="rect">
            <a:avLst/>
          </a:prstGeom>
          <a:noFill/>
          <a:ln cap="sq"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Arial"/>
              </a:rPr>
              <a:t>1831- sailed on the HMS Beagle to the 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Galapagos Islands</a:t>
            </a:r>
            <a:r>
              <a:rPr b="0" lang="es-ES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Arial"/>
              </a:rPr>
              <a:t>Studied many species of finche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Arial"/>
              </a:rPr>
              <a:t>Published book in 1845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1240" indent="-284040" algn="ctr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i="1" lang="es-ES" sz="3200" spc="-1" strike="noStrike" u="sng">
                <a:solidFill>
                  <a:srgbClr val="003366"/>
                </a:solidFill>
                <a:uFillTx/>
                <a:latin typeface="Arial"/>
              </a:rPr>
              <a:t>On the Origin of Species by Natural Selection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comic"/>
              </a:rPr>
              <a:t>Darwin’s Theory of Evolution</a:t>
            </a:r>
            <a:br>
              <a:rPr sz="3600"/>
            </a:br>
            <a:r>
              <a:rPr b="1" lang="es-ES" sz="1400" spc="-1" strike="noStrike">
                <a:solidFill>
                  <a:srgbClr val="006666"/>
                </a:solidFill>
                <a:latin typeface="Arial"/>
              </a:rPr>
              <a:t>(don’t copy all this it’s on your handout) </a:t>
            </a:r>
            <a:r>
              <a:rPr b="1" lang="es-ES" sz="1400" spc="-1" strike="noStrike">
                <a:solidFill>
                  <a:srgbClr val="006666"/>
                </a:solidFill>
                <a:latin typeface="Wingdings"/>
                <a:ea typeface="Wingdings"/>
              </a:rPr>
              <a:t>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3352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Broadway"/>
              </a:rPr>
              <a:t>“</a:t>
            </a:r>
            <a:r>
              <a:rPr b="1" lang="es-ES" sz="2400" spc="-1" strike="noStrike">
                <a:solidFill>
                  <a:srgbClr val="003366"/>
                </a:solidFill>
                <a:latin typeface="Broadway"/>
              </a:rPr>
              <a:t>Survival of the Fittes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666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Broadway"/>
              </a:rPr>
              <a:t>“</a:t>
            </a:r>
            <a:r>
              <a:rPr b="1" lang="es-ES" sz="2400" spc="-1" strike="noStrike">
                <a:solidFill>
                  <a:srgbClr val="003366"/>
                </a:solidFill>
                <a:latin typeface="Broadway"/>
              </a:rPr>
              <a:t>Natural Selection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103400"/>
            <a:ext cx="70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4876920"/>
            <a:ext cx="8153280" cy="111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ur main point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003366"/>
                </a:solidFill>
                <a:uFillTx/>
                <a:latin typeface="Arial"/>
              </a:rPr>
              <a:t>1.  More organisms are produced than can survive…leads to </a:t>
            </a:r>
            <a:r>
              <a:rPr b="1" lang="es-ES" sz="2800" spc="-1" strike="noStrike" u="sng">
                <a:solidFill>
                  <a:srgbClr val="003399"/>
                </a:solidFill>
                <a:uFillTx/>
                <a:latin typeface="Arial"/>
              </a:rPr>
              <a:t>COMPETITION OVER RE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x’s of resources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oo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Habita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Mat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2.  Individuals within a population vary, and some of these traits are heritable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248160" cy="415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5:26:34Z</dcterms:created>
  <dc:creator>Solon Board of Education</dc:creator>
  <dc:description/>
  <dc:language>en-US</dc:language>
  <cp:lastModifiedBy>Solon Board of Education</cp:lastModifiedBy>
  <dcterms:modified xsi:type="dcterms:W3CDTF">2009-02-04T18:02:37Z</dcterms:modified>
  <cp:revision>12</cp:revision>
  <dc:subject/>
  <dc:title>Theories of Evolution</dc:title>
</cp:coreProperties>
</file>